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69F-663B-4275-9507-00A3EF2E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80C-5E2E-4220-B852-E7AB419C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8D1-9E33-44FE-BA79-8B820915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642-A148-439F-BFC5-52D4BCA1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69C-AA4E-4A4A-ADFC-67B4F596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9EB-CD89-4F49-9B71-6E939A03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C6E-B017-40F5-BCDD-30B523BF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F97-894D-495D-8B93-F01BF26C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A63-6739-404B-82E2-0F84A25B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8EC-EE3D-4C43-B79F-CFCD8C8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607-C464-46CC-B611-F2687806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CD5-2DE6-413A-94CA-A3FBB1A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B3EB-3D6D-4B74-9699-F280B2274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quence the structures of living things from the least complex to the most complex –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tissues, organs, organ systems,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runner sweats to –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lect a variable to alter the environ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e.g.,temperature, light, moisture, gravity) and observe the effects on an organism (earthworm)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e the effects of environmental condit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n ones own behavior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bserve the response of the bod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when competing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a running event. (In order to maintain body temperature, various systems begin cooling through such processes as sweating and cooling the bloo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 the surface of the skin)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vestigate the effects of various stimuli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n plants and how they adapt their growth (e.g.,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hot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opism,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ge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opism and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herm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opism).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cribe plant and animal respons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o seasonal change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e.g., nocturnal, migration, hibernation, color change, fu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ngth).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derstand that diseas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 an organism creates a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balance in internal condi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2319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74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are and contrast plant and animal cel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2019240"/>
            <a:ext cx="6324840" cy="4311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86600" y="838080"/>
            <a:ext cx="1905120" cy="1752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ecaa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 Cel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103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858000" cy="467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80880"/>
            <a:ext cx="1524240" cy="1295640"/>
          </a:xfrm>
          <a:prstGeom prst="wedgeRectCallout">
            <a:avLst>
              <a:gd name="adj1" fmla="val 45314"/>
              <a:gd name="adj2" fmla="val 84560"/>
            </a:avLst>
          </a:prstGeom>
          <a:solidFill>
            <a:srgbClr val="c0f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 Ce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656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s         Tiss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05920" cy="566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6200" y="457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661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ssue    Organ    Orga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685800"/>
            <a:ext cx="533520" cy="409680"/>
          </a:xfrm>
          <a:prstGeom prst="rightArrow">
            <a:avLst>
              <a:gd name="adj1" fmla="val 50000"/>
              <a:gd name="adj2" fmla="val 325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685800"/>
            <a:ext cx="533160" cy="409680"/>
          </a:xfrm>
          <a:prstGeom prst="rightArrow">
            <a:avLst>
              <a:gd name="adj1" fmla="val 50000"/>
              <a:gd name="adj2" fmla="val 325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488304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7776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cribe the functions of the digestive and or circulatory system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• Identify human body organs and characteristics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ate their characteristics to functio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61084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 following is an exampl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en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Which of the following can reproduce both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xually and asex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Which form of reproduction requir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x cel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propagation of new plants fr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tings (which skips a portion of the life cycle) with the process of producing a new plant fr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ation of an ovum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e and communic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ife cycle of an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8143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9:29:46Z</dcterms:created>
  <dc:creator>USD376</dc:creator>
  <dc:description/>
  <dc:language>en-US</dc:language>
  <cp:lastModifiedBy>USD376</cp:lastModifiedBy>
  <dcterms:modified xsi:type="dcterms:W3CDTF">2010-04-20T09:54:10Z</dcterms:modified>
  <cp:revision>2</cp:revision>
  <dc:subject/>
  <dc:title>• Describe the functions of the digestive and or circulatory systems. • Sequence the structures of living things from the least complex to the most complex – cells, tissues, organs, organ systems, organism • Identify human body organs and characteristics and relate their characteristics to function. • Compare and contrast plant and animal cells.</dc:title>
</cp:coreProperties>
</file>